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44BF-A906-4336-8DAF-F5C577EDA3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B9D3-FB85-4EB8-A072-F1F5FDC6F0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86C3-893C-4933-B98C-F55EA77076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Неценовые факторы изменения спроса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C1E6-4ABE-4639-B268-C80C1EA53F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F07-C3C6-464C-9096-5D32CED4A2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рос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C1EA-5071-4060-BF9C-FCBE39122A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C71D-6FA5-4379-895F-C7128401CB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7257-AB41-4882-AE2F-718A7E3B04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9830-2E7D-4C4B-ACD9-820EAA8407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C3DC-B626-458B-B7DC-1D5CCFE7FE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588-9A31-429F-BDFC-93D69483E0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BE00-4F25-4996-BF67-FD335A7AAA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55C-BBF6-4B81-8AE3-F2E5992E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CC8-31FD-4CD7-8C34-DC9055BF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EDA-5E0D-4378-AA03-7BF9443F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47B-F05D-4B9A-838E-DD2A3E28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940-B34E-459D-B484-01DDA866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40FB-062B-4178-A4E6-BBC6FB3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1BD7-67E4-47C5-A16B-98E58D65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3BA0-94AB-4161-9B2F-2334CDBB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3243-8000-495A-85F2-50A80B6C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482B-259B-4132-B261-41331E7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965D-0BFC-4A8D-8880-6D1778AF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73A-9645-49B7-B34E-99B4D39C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D483-AC60-4E0F-B678-BF64941D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556-C9DD-46D6-BF91-1DCD340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E9A0-C82E-4459-ADB9-6D5FD497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7578-3B2C-4AE9-9BA3-45A56757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3C84-1531-43C4-BDF4-8044E288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081-F3EF-43C8-8071-9FC408B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719-40A8-436E-873A-F242611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394-525D-4FDA-A74B-47AB149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9CA-ED20-4598-A10C-D5A621D3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ED3-9E68-4486-B199-C69D449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C62-2AB0-48B2-BFCC-FB6349D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37E-2573-43E9-B748-E4DFBBE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05E-7742-414E-8844-237401064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0252-1581-4FE4-921E-43309E3F5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5" descr="C:\Documents and Settings\Администратор.АДМИНИСТРАТОР\Мои документы\Мои рисунки\Движ картинки\food14[1].gif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C:\Documents and Settings\Администратор.АДМИНИСТРАТОР\Мои документы\Мои рисунки\Движ картинки\026.gif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C:\Documents and Settings\Администратор.АДМИНИСТРАТОР\Мои документы\Мои рисунки\Движ картинки\Картинки\002.gif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Documents and Settings\Администратор.АДМИНИСТРАТОР\Мои документы\Мои рисунки\Движ картинки\AG00032_.GIF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Documents and Settings\Администратор.АДМИНИСТРАТОР\Мои документы\Мои рисунки\Движ картинки\AG00033_.GIF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Documents and Settings\Администратор.АДМИНИСТРАТОР\Мои документы\Мои рисунки\Движ картинки\AG00328_.GIF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Documents and Settings\Администратор.АДМИНИСТРАТОР\Мои документы\Мои рисунки\Движ картинки\AG00327_.GIF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Documents and Settings\Администратор.АДМИНИСТРАТОР\Мои документы\Мои рисунки\Движ картинки\AG00330_.GIF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C:\Documents and Settings\Администратор.АДМИНИСТРАТОР\Мои документы\Мои рисунки\Движ картинки\AG00331_.GIF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C:\Documents and Settings\Администратор.АДМИНИСТРАТОР\Мои документы\Мои рисунки\Движ картинки\AG00332_.GIF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Администратор.АДМИНИСТРАТОР\Мои документы\Мои рисунки\Движ картинки\AG00333_.GIF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C:\Documents and Settings\Администратор.АДМИНИСТРАТОР\Мои документы\Мои рисунки\Движ картинки\J0076210.GIF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C:\Documents and Settings\Администратор.АДМИНИСТРАТОР\Мои документы\Мои рисунки\Движ картинки\J0095685.GIF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C:\Documents and Settings\Администратор.АДМИНИСТРАТОР\Мои документы\Мои рисунки\Движ картинки\J0095684.GIF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Администратор.АДМИНИСТРАТОР\Мои документы\Мои рисунки\Движ картинки\J0095723.GIF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C:\Documents and Settings\Администратор.АДМИНИСТРАТОР\Мои документы\Мои рисунки\Движ картинки\J0095724.GIF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Documents and Settings\Администратор.АДМИНИСТРАТОР\Мои документы\Мои рисунки\Движ картинки\J0095710.GIF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C:\Documents and Settings\Администратор.АДМИНИСТРАТОР\Мои документы\Мои рисунки\Движ картинки\J0076120.GIF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Documents and Settings\Администратор.АДМИНИСТРАТОР\Мои документы\Мои рисунки\Движ картинки\J0095678.GIF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C:\Documents and Settings\Администратор.АДМИНИСТРАТОР\Мои документы\Мои рисунки\Движ картинки\food19[1].gif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4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5" descr="C:\Documents and Settings\Администратор.АДМИНИСТРАТОР\Мои документы\Мои рисунки\Движ картинки\Движ картинки\BS00004A.GIF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Администратор.АДМИНИСТРАТОР\Мои документы\Мои рисунки\Движ картинки\Движ картинки\BS00005A.GIF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Picture 6" descr="C:\Documents and Settings\Администратор.АДМИНИСТРАТОР\Мои документы\Мои рисунки\Движ картинки\food26[1].gif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C:\Documents and Settings\Администратор.АДМИНИСТРАТОР\Мои документы\Мои рисунки\Движ картинки\food10[1].gif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Администратор.АДМИНИСТРАТОР\Мои документы\Мои рисунки\Движ картинки\food20[1].gif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C:\Documents and Settings\Администратор.АДМИНИСТРАТОР\Мои документы\Мои рисунки\Движ картинки\food33[1].gif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" descr="C:\Documents and Settings\Администратор.АДМИНИСТРАТОР\Мои документы\Мои рисунки\Движ картинки\21M4.gif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6" descr="C:\Documents and Settings\Администратор.АДМИНИСТРАТОР\Мои документы\Мои рисунки\Движ картинки\Движ картинки\BS00558A.GIF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4-11-10T12:18:21Z</dcterms:modified>
  <cp:revision>21</cp:revision>
  <dc:subject/>
  <dc:title>Спрос. Предложение. Равновесие.</dc:title>
</cp:coreProperties>
</file>